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B8ED-B367-4D7B-999C-469A8DB00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B62A-3F37-43B0-B06E-61C3672A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D5D2-3DE7-4962-A985-7F9D344B2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8F9E-FAE1-48A7-B0D0-6192B9CD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FC3A-6D91-48F1-89EA-D6FEBC143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93A6-17EA-429D-A040-0EF04F1C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C2D6-D84D-472E-B9E5-45CC9753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91D1-AD19-48AE-A824-A9A9CE7D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BD94-9757-43C9-9CD0-F57F3370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D9AD-AAE8-4AC1-ACAA-6043B7F3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A099-D27F-440A-B654-065370D3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8689-7CBD-471A-AD89-AA52E0BA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93CA-8F3B-44E7-9524-84889218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1845-9A8A-41BD-B965-EC884982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9504-2EA6-4162-A89A-0E8D3EBE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47F9-D6A9-4FA3-B5F7-23452C42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0791-A66A-4144-849A-B90D7660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F9243-E50E-485A-B3F9-7F754F2E8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E09DC-2CCB-49E2-86F2-EA6D0914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32F54-CF84-4E82-B1A0-61031B5E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AA7B3-951D-45E9-BE59-50690E2D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308CC-440E-4E88-AA85-94E9704C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CB25-EA36-43E8-A439-ADB0C875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21DBC-3388-43B2-B5BC-35E6FA7C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8EF54-2E7B-4792-AF2B-47D695CE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E152F-ACC3-4DC0-B385-C75FA7BE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8D2F1-33ED-4795-93B9-4EC424DB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F5184-F4EC-476D-BF42-1C8E0E78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5AFD7-B25F-4AE8-B89C-895BD6D8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A8087-C204-47A6-9B2B-AFF1BAA04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91A9F-6F88-4FBE-B3DE-5EFB123C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9CE75-4281-4C4E-B2C0-49419E38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1C94A-CB7E-4053-983D-6ABD720B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6193-3323-4F32-9E7C-D0936CC5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840EC-5A64-46E5-9BDA-3F0565DC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FC46C-AFB9-49A8-8869-3B3E5789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505C5-A519-4C7A-BECD-AA3F77BE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7C3DF-2B8D-4437-A1A0-9442BB0E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09B96-D3B5-48CB-B88A-6D6983A1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F4CF5-63A4-4679-96E0-9FEFB68B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FCC41-C6B1-40FE-AE22-E4E466B4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46583-7A48-486D-82D9-9CF71C181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D89FC-7D1E-4575-B04E-5B364E68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B5266-9E43-42AB-A9B3-6D95FAB0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9122-8C9D-46EB-A243-BE75F74D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A74C5-8014-4E72-ADDE-D9684123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E81C8-46E2-4C93-84B8-2C9F3800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786C8-C195-4D4D-A8B6-61ED038E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BB18D-9007-433C-B3F9-FD398DEA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A7967-845D-42ED-B1F7-B300A7D1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CB6E4-F805-4829-9A1E-67D2D8A4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70C87-5EDE-444C-8F40-76CCAFD0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2A44F-4C73-4E17-B210-4C5522D2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7B82C-4939-4E14-A218-D5713244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58B70-D339-4A56-8ED0-8F7C506CB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A775-8376-4187-8488-D44207DD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5DDED-5BBE-449B-A3C6-A6F92FAF7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BCFDF-9883-4E44-93FE-668053490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B5C37-1932-4278-B2A2-3B699C11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BCCF2-1C9E-40BF-B80C-1DBC7C35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3E63D-AEB2-4769-9B12-8518640E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3D0F7-1862-474B-8125-FBB8B389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72DD2-A1C3-49A3-895C-D0944DDE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DEC00-45AA-457A-BE6D-3E9A7C91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27762-D349-42F4-8498-9970FF6D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A26A7-62CD-4D82-BAEE-5A13FCD4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AC3A-2ADA-4073-8BC8-E446F6BA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7D067-02A3-45B0-92AD-70FA53F5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7D5B2-B22A-40D7-B5EA-FE8BD60DE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D5C0C-7114-4F69-BB36-DF94B0AB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0498-50C1-40BB-956F-584D7721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479C-3B56-470D-8A21-42E72350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21420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336B-A34C-4DEA-A3E1-0BB2CC065413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19"/>
          <p:cNvSpPr/>
          <p:nvPr/>
        </p:nvSpPr>
        <p:spPr>
          <a:xfrm flipH="1">
            <a:off x="135000" y="1440"/>
            <a:ext cx="1440" cy="6858000"/>
          </a:xfrm>
          <a:prstGeom prst="line">
            <a:avLst/>
          </a:prstGeom>
          <a:ln w="12600">
            <a:solidFill>
              <a:srgbClr val="350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Straight Connector 11"/>
          <p:cNvSpPr/>
          <p:nvPr/>
        </p:nvSpPr>
        <p:spPr>
          <a:xfrm flipH="1">
            <a:off x="184320" y="0"/>
            <a:ext cx="1440" cy="6858000"/>
          </a:xfrm>
          <a:prstGeom prst="line">
            <a:avLst/>
          </a:prstGeom>
          <a:ln w="12600">
            <a:solidFill>
              <a:srgbClr val="350f4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Straight Connector 14"/>
          <p:cNvSpPr/>
          <p:nvPr/>
        </p:nvSpPr>
        <p:spPr>
          <a:xfrm flipH="1">
            <a:off x="243000" y="0"/>
            <a:ext cx="1440" cy="6858000"/>
          </a:xfrm>
          <a:prstGeom prst="line">
            <a:avLst/>
          </a:prstGeom>
          <a:ln w="32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Straight Connector 17"/>
          <p:cNvSpPr/>
          <p:nvPr/>
        </p:nvSpPr>
        <p:spPr>
          <a:xfrm flipH="1">
            <a:off x="9128160" y="0"/>
            <a:ext cx="1440" cy="6858000"/>
          </a:xfrm>
          <a:prstGeom prst="line">
            <a:avLst/>
          </a:prstGeom>
          <a:ln w="284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5"/>
          <p:cNvSpPr/>
          <p:nvPr/>
        </p:nvSpPr>
        <p:spPr>
          <a:xfrm>
            <a:off x="0" y="0"/>
            <a:ext cx="21420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Straight Connector 19"/>
          <p:cNvSpPr/>
          <p:nvPr/>
        </p:nvSpPr>
        <p:spPr>
          <a:xfrm flipH="1">
            <a:off x="135000" y="1440"/>
            <a:ext cx="1440" cy="6858000"/>
          </a:xfrm>
          <a:prstGeom prst="line">
            <a:avLst/>
          </a:prstGeom>
          <a:ln w="12600">
            <a:solidFill>
              <a:srgbClr val="350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Straight Connector 11"/>
          <p:cNvSpPr/>
          <p:nvPr/>
        </p:nvSpPr>
        <p:spPr>
          <a:xfrm flipH="1">
            <a:off x="184320" y="0"/>
            <a:ext cx="1440" cy="6858000"/>
          </a:xfrm>
          <a:prstGeom prst="line">
            <a:avLst/>
          </a:prstGeom>
          <a:ln w="12600">
            <a:solidFill>
              <a:srgbClr val="350f4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Straight Connector 14"/>
          <p:cNvSpPr/>
          <p:nvPr/>
        </p:nvSpPr>
        <p:spPr>
          <a:xfrm flipH="1">
            <a:off x="243000" y="0"/>
            <a:ext cx="1440" cy="6858000"/>
          </a:xfrm>
          <a:prstGeom prst="line">
            <a:avLst/>
          </a:prstGeom>
          <a:ln w="32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Straight Connector 17"/>
          <p:cNvSpPr/>
          <p:nvPr/>
        </p:nvSpPr>
        <p:spPr>
          <a:xfrm flipH="1">
            <a:off x="9128160" y="0"/>
            <a:ext cx="1440" cy="6858000"/>
          </a:xfrm>
          <a:prstGeom prst="line">
            <a:avLst/>
          </a:prstGeom>
          <a:ln w="284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8429760" y="3357720"/>
            <a:ext cx="21420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6"/>
          <p:cNvSpPr/>
          <p:nvPr/>
        </p:nvSpPr>
        <p:spPr>
          <a:xfrm>
            <a:off x="7286760" y="2786040"/>
            <a:ext cx="21420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7286760" y="3357720"/>
            <a:ext cx="21420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0"/>
          <p:cNvSpPr/>
          <p:nvPr/>
        </p:nvSpPr>
        <p:spPr>
          <a:xfrm>
            <a:off x="7572240" y="2786040"/>
            <a:ext cx="21456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7572240" y="3357720"/>
            <a:ext cx="21456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4"/>
          <p:cNvSpPr/>
          <p:nvPr/>
        </p:nvSpPr>
        <p:spPr>
          <a:xfrm>
            <a:off x="7858080" y="2786040"/>
            <a:ext cx="21420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5"/>
          <p:cNvSpPr/>
          <p:nvPr/>
        </p:nvSpPr>
        <p:spPr>
          <a:xfrm>
            <a:off x="7858080" y="3357720"/>
            <a:ext cx="21420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6"/>
          <p:cNvSpPr/>
          <p:nvPr/>
        </p:nvSpPr>
        <p:spPr>
          <a:xfrm>
            <a:off x="8429760" y="2786040"/>
            <a:ext cx="21420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27"/>
          <p:cNvSpPr/>
          <p:nvPr/>
        </p:nvSpPr>
        <p:spPr>
          <a:xfrm>
            <a:off x="8143920" y="3357720"/>
            <a:ext cx="21420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8"/>
          <p:cNvSpPr/>
          <p:nvPr/>
        </p:nvSpPr>
        <p:spPr>
          <a:xfrm>
            <a:off x="8143920" y="2786040"/>
            <a:ext cx="21420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29"/>
          <p:cNvSpPr/>
          <p:nvPr/>
        </p:nvSpPr>
        <p:spPr>
          <a:xfrm>
            <a:off x="7572240" y="3071880"/>
            <a:ext cx="21456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30"/>
          <p:cNvSpPr/>
          <p:nvPr/>
        </p:nvSpPr>
        <p:spPr>
          <a:xfrm>
            <a:off x="7858080" y="3071880"/>
            <a:ext cx="21420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31"/>
          <p:cNvSpPr/>
          <p:nvPr/>
        </p:nvSpPr>
        <p:spPr>
          <a:xfrm>
            <a:off x="8429760" y="3071880"/>
            <a:ext cx="21420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32"/>
          <p:cNvSpPr/>
          <p:nvPr/>
        </p:nvSpPr>
        <p:spPr>
          <a:xfrm>
            <a:off x="8143920" y="3071880"/>
            <a:ext cx="21420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33"/>
          <p:cNvSpPr/>
          <p:nvPr/>
        </p:nvSpPr>
        <p:spPr>
          <a:xfrm>
            <a:off x="7286760" y="3071880"/>
            <a:ext cx="21420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B242-6FB4-45BD-9210-4FBB4CDE99C9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5"/>
          <p:cNvSpPr/>
          <p:nvPr/>
        </p:nvSpPr>
        <p:spPr>
          <a:xfrm>
            <a:off x="0" y="0"/>
            <a:ext cx="21420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Straight Connector 19"/>
          <p:cNvSpPr/>
          <p:nvPr/>
        </p:nvSpPr>
        <p:spPr>
          <a:xfrm flipH="1">
            <a:off x="135000" y="1440"/>
            <a:ext cx="1440" cy="6858000"/>
          </a:xfrm>
          <a:prstGeom prst="line">
            <a:avLst/>
          </a:prstGeom>
          <a:ln w="12600">
            <a:solidFill>
              <a:srgbClr val="350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Straight Connector 11"/>
          <p:cNvSpPr/>
          <p:nvPr/>
        </p:nvSpPr>
        <p:spPr>
          <a:xfrm flipH="1">
            <a:off x="184320" y="0"/>
            <a:ext cx="1440" cy="6858000"/>
          </a:xfrm>
          <a:prstGeom prst="line">
            <a:avLst/>
          </a:prstGeom>
          <a:ln w="12600">
            <a:solidFill>
              <a:srgbClr val="350f4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Straight Connector 14"/>
          <p:cNvSpPr/>
          <p:nvPr/>
        </p:nvSpPr>
        <p:spPr>
          <a:xfrm flipH="1">
            <a:off x="243000" y="0"/>
            <a:ext cx="1440" cy="6858000"/>
          </a:xfrm>
          <a:prstGeom prst="line">
            <a:avLst/>
          </a:prstGeom>
          <a:ln w="32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traight Connector 17"/>
          <p:cNvSpPr/>
          <p:nvPr/>
        </p:nvSpPr>
        <p:spPr>
          <a:xfrm flipH="1">
            <a:off x="9128160" y="0"/>
            <a:ext cx="1440" cy="6858000"/>
          </a:xfrm>
          <a:prstGeom prst="line">
            <a:avLst/>
          </a:prstGeom>
          <a:ln w="284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Straight Connector 12"/>
          <p:cNvSpPr/>
          <p:nvPr/>
        </p:nvSpPr>
        <p:spPr>
          <a:xfrm>
            <a:off x="714240" y="5276880"/>
            <a:ext cx="7500960" cy="1440"/>
          </a:xfrm>
          <a:prstGeom prst="line">
            <a:avLst/>
          </a:prstGeom>
          <a:ln w="9360">
            <a:solidFill>
              <a:srgbClr val="ffff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6E8C-A7C9-4737-9A58-8C11E131D4FE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38D6-37BC-4510-B503-6210C11D8360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02D3-B765-4120-99E0-8EE46BDD3D52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5EDB-1D6D-4C3E-8A67-E41120DB2372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Title 1" descr=""/>
          <p:cNvPicPr/>
          <p:nvPr/>
        </p:nvPicPr>
        <p:blipFill>
          <a:blip r:embed="rId1"/>
          <a:stretch/>
        </p:blipFill>
        <p:spPr>
          <a:xfrm>
            <a:off x="907920" y="390600"/>
            <a:ext cx="7785360" cy="1041480"/>
          </a:xfrm>
          <a:prstGeom prst="rect">
            <a:avLst/>
          </a:prstGeom>
          <a:ln w="0">
            <a:noFill/>
          </a:ln>
        </p:spPr>
      </p:pic>
      <p:pic>
        <p:nvPicPr>
          <p:cNvPr id="278" name="Content Placeholder 5" descr=""/>
          <p:cNvPicPr/>
          <p:nvPr/>
        </p:nvPicPr>
        <p:blipFill>
          <a:blip r:embed="rId2"/>
          <a:stretch/>
        </p:blipFill>
        <p:spPr>
          <a:xfrm>
            <a:off x="895320" y="1536840"/>
            <a:ext cx="781524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Title 2" descr=""/>
          <p:cNvPicPr/>
          <p:nvPr/>
        </p:nvPicPr>
        <p:blipFill>
          <a:blip r:embed="rId1"/>
          <a:stretch/>
        </p:blipFill>
        <p:spPr>
          <a:xfrm>
            <a:off x="907920" y="390600"/>
            <a:ext cx="7785360" cy="1041480"/>
          </a:xfrm>
          <a:prstGeom prst="rect">
            <a:avLst/>
          </a:prstGeom>
          <a:ln w="0">
            <a:noFill/>
          </a:ln>
        </p:spPr>
      </p:pic>
      <p:pic>
        <p:nvPicPr>
          <p:cNvPr id="280" name="Content Placeholder 4" descr=""/>
          <p:cNvPicPr/>
          <p:nvPr/>
        </p:nvPicPr>
        <p:blipFill>
          <a:blip r:embed="rId2"/>
          <a:stretch/>
        </p:blipFill>
        <p:spPr>
          <a:xfrm>
            <a:off x="841320" y="1566720"/>
            <a:ext cx="7905960" cy="47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4:47:29Z</dcterms:created>
  <dc:creator>Corri Baker</dc:creator>
  <dc:description/>
  <dc:language>en-US</dc:language>
  <cp:lastModifiedBy>Corri Baker</cp:lastModifiedBy>
  <dcterms:modified xsi:type="dcterms:W3CDTF">2009-04-13T04:16:58Z</dcterms:modified>
  <cp:revision>24</cp:revision>
  <dc:subject/>
  <dc:title>Promethean Information</dc:title>
</cp:coreProperties>
</file>